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BA4-2156-4997-85F0-810A8149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E5A-EF70-4A83-8587-7C32A89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29F-A39C-48F6-88C7-59C71CD4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FAA-CFE2-4076-8F1F-B0840A47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D95-5B72-4389-9D21-E6E1A349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93E-9764-454B-9C67-F892E31D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12C-7374-4F21-8CCF-3C1EA28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BD3-B37B-4315-9D6E-809AB3B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233-A6F4-4953-8DBA-091D8E6D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901-1D1B-49C9-B2E7-F625E9E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9B0-B19B-4A66-94BF-EBA6B2A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B43-2655-4BFC-A060-3616DD2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341-94B3-42E6-880E-D4A14EDC4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943600" cy="633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3280" y="620280"/>
            <a:ext cx="4500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ьчаты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1f00"/>
                </a:solidFill>
                <a:latin typeface="Arial Black"/>
              </a:rPr>
              <a:t>Пищевари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Пищев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33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Rectangle 5"/>
          <p:cNvSpPr/>
          <p:nvPr/>
        </p:nvSpPr>
        <p:spPr>
          <a:xfrm flipV="1" rot="10800000">
            <a:off x="455400" y="5333760"/>
            <a:ext cx="83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товое отверстие → глотка → пищевод → зоб → желудок → кишечник → анальное отвер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c1f00"/>
                </a:solidFill>
                <a:latin typeface="Arial Black"/>
              </a:rPr>
              <a:t>Кровенос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ровеносн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34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Rectangle 5"/>
          <p:cNvSpPr/>
          <p:nvPr/>
        </p:nvSpPr>
        <p:spPr>
          <a:xfrm>
            <a:off x="838080" y="518148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дольные с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ьцевые с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ерд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c1f00"/>
                </a:solidFill>
                <a:latin typeface="Arial Black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95280" y="5445000"/>
            <a:ext cx="505116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льные вор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Выделительная с-ма кольчатых 1"/>
          <p:cNvPicPr/>
          <p:nvPr/>
        </p:nvPicPr>
        <p:blipFill>
          <a:blip r:embed="rId1"/>
          <a:srcRect l="0" t="0" r="0" b="12774"/>
          <a:stretch/>
        </p:blipFill>
        <p:spPr>
          <a:xfrm>
            <a:off x="250920" y="1700280"/>
            <a:ext cx="8713800" cy="256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Line 5"/>
          <p:cNvSpPr/>
          <p:nvPr/>
        </p:nvSpPr>
        <p:spPr>
          <a:xfrm flipH="1" flipV="1">
            <a:off x="3708000" y="3499920"/>
            <a:ext cx="792360" cy="2016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4500720" y="3499920"/>
            <a:ext cx="1584000" cy="2016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c1f00"/>
                </a:solidFill>
                <a:latin typeface="Arial Black"/>
              </a:rPr>
              <a:t>Нерв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5084640"/>
            <a:ext cx="4402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глоточное нервное коль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Нервная с-ма кольчатых 1"/>
          <p:cNvPicPr/>
          <p:nvPr/>
        </p:nvPicPr>
        <p:blipFill>
          <a:blip r:embed="rId1"/>
          <a:srcRect l="0" t="0" r="0" b="8484"/>
          <a:stretch/>
        </p:blipFill>
        <p:spPr>
          <a:xfrm>
            <a:off x="324000" y="1341360"/>
            <a:ext cx="8569080" cy="24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Rectangle 5"/>
          <p:cNvSpPr/>
          <p:nvPr/>
        </p:nvSpPr>
        <p:spPr>
          <a:xfrm>
            <a:off x="5651640" y="494172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ю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вная цеп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 flipH="1" flipV="1">
            <a:off x="1403280" y="2852640"/>
            <a:ext cx="1008000" cy="22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6443640" y="3068280"/>
            <a:ext cx="792360" cy="180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 flipV="1">
            <a:off x="4211640" y="2997000"/>
            <a:ext cx="2232000" cy="1871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1f00"/>
                </a:solidFill>
                <a:latin typeface="Arial Black"/>
              </a:rPr>
              <a:t>Размн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1.bmp"/>
          <p:cNvPicPr/>
          <p:nvPr/>
        </p:nvPicPr>
        <p:blipFill>
          <a:blip r:embed="rId1"/>
          <a:stretch/>
        </p:blipFill>
        <p:spPr>
          <a:xfrm>
            <a:off x="739800" y="1600200"/>
            <a:ext cx="76644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Arial"/>
              </a:rPr>
              <a:t>Роль дождевых червей в приро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уговорот веществ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разуют перегной - гумус (органическая часть почвы, богатая питательными веществами) – «хлеб» для растений (98% почвенного азота, 60% фосфора, 80% калия и др. минеральные элементы для роста расте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вено в цепи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разуют дренаж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еззараживают поч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ыхлят поч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здают вентиляцию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готавливают земли для роста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68360" y="317520"/>
            <a:ext cx="8218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Arial"/>
              </a:rPr>
              <a:t>Роль дождевых червей в жизни челове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 Гумусное (органическое) удоб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. БАВ (биологически активные вещества - незаменимые аминокислоты, ферменты, витамины) используются 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етеринар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армак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смет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ельском хозяйств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иотехнологических отрасл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. Корм для рыб, домашни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. Белковая мука, консервы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. Переработка навоза,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6. Изучение процессов реген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класс МНОГОЩЕТИНКОВЫЕ</a:t>
            </a:r>
            <a:br>
              <a:rPr sz="3600"/>
            </a:br>
            <a:r>
              <a:rPr b="1" i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(полихеты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щупаль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щуп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ус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гл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парапо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троение"/>
          <p:cNvPicPr/>
          <p:nvPr/>
        </p:nvPicPr>
        <p:blipFill>
          <a:blip r:embed="rId1"/>
          <a:stretch/>
        </p:blipFill>
        <p:spPr>
          <a:xfrm>
            <a:off x="522360" y="1600200"/>
            <a:ext cx="39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Многообразие Многощетинковых черв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692280"/>
            <a:ext cx="4316400" cy="30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аунк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89200" y="836280"/>
            <a:ext cx="5554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пул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880000" cy="244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664000" cy="201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30328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3203640" y="155736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5"/>
          <a:srcRect l="0" t="17611" r="0" b="0"/>
          <a:stretch/>
        </p:blipFill>
        <p:spPr>
          <a:xfrm>
            <a:off x="395280" y="1197000"/>
            <a:ext cx="237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образ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щетинк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пула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род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9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3672000" cy="2760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190600" cy="321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619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5562720" y="1413000"/>
            <a:ext cx="3581280" cy="544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5562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коло 9 тыс.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битают в водной, почвенной средах; свободноживущие и эктопаразиты (пиявки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о вытянутое, имеет головной, хвостовой отделы и туловище, состоящее из сегментов; длина тела от 0,5 мм до 3 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ицинская пия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т гирудин, препятствующий свертыванию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дает мощными челюстями, способными прокусит 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74" b="0"/>
          <a:stretch/>
        </p:blipFill>
        <p:spPr>
          <a:xfrm>
            <a:off x="468360" y="4076640"/>
            <a:ext cx="3887640" cy="2408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622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Трехслойные, двустороннесимметр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Кожно-мускульный мешок образован продольными, поперечными, косыми мышцами, ограничивает вторичную полость тела, заполненную жид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на каждом сегменте имеются выросты –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арапо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фрод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8" descr=""/>
          <p:cNvPicPr/>
          <p:nvPr/>
        </p:nvPicPr>
        <p:blipFill>
          <a:blip r:embed="rId1"/>
          <a:stretch/>
        </p:blipFill>
        <p:spPr>
          <a:xfrm>
            <a:off x="324000" y="3195720"/>
            <a:ext cx="496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435560" cy="4619880"/>
          </a:xfrm>
          <a:prstGeom prst="rect">
            <a:avLst/>
          </a:prstGeom>
          <a:ln w="22320">
            <a:solidFill>
              <a:srgbClr val="80008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лость тела кольчатых чер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00"/>
                </a:solidFill>
                <a:uFillTx/>
                <a:latin typeface="Arial"/>
              </a:rPr>
              <a:t>ТИП КОЛЬЧАТЫ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Res" descr="resC4E8CF11-0A01-022A-013B-168C2D21579B"/>
          <p:cNvPicPr/>
          <p:nvPr/>
        </p:nvPicPr>
        <p:blipFill>
          <a:blip r:embed="rId1"/>
          <a:stretch/>
        </p:blipFill>
        <p:spPr>
          <a:xfrm>
            <a:off x="3419640" y="4724280"/>
            <a:ext cx="266508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Res" descr="resC4E8CF19-0A01-022A-00CB-95028B08CDEA"/>
          <p:cNvPicPr/>
          <p:nvPr/>
        </p:nvPicPr>
        <p:blipFill>
          <a:blip r:embed="rId2"/>
          <a:stretch/>
        </p:blipFill>
        <p:spPr>
          <a:xfrm>
            <a:off x="6172200" y="472428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to2"/>
          <p:cNvPicPr/>
          <p:nvPr/>
        </p:nvPicPr>
        <p:blipFill>
          <a:blip r:embed="rId3"/>
          <a:stretch/>
        </p:blipFill>
        <p:spPr>
          <a:xfrm>
            <a:off x="380880" y="4800600"/>
            <a:ext cx="2837160" cy="17668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6300720" y="1197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788000" y="126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>
            <a:off x="2339640" y="134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1916280"/>
            <a:ext cx="28796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класс МНОГОЩЕТИН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(полих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ере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Афрод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ескож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ерп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940360" y="191628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класс ПИ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429000" y="2514600"/>
            <a:ext cx="2895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МАЛОЩЕТИН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(олигох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cc33"/>
                </a:solidFill>
                <a:uFillTx/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cc33"/>
                </a:solidFill>
                <a:uFillTx/>
                <a:latin typeface="Arial"/>
              </a:rPr>
              <a:t>труб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Класс МАЛОЩЕТИНКОВЫЕ</a:t>
            </a:r>
            <a:br>
              <a:rPr sz="3200"/>
            </a:b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(олигохоты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ТИП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Кольчатые черви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ОДТИ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ясковые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алощетинковые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ОТРЯ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ысшие олигохеты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СЕМЕЙСТВО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Люмбрициды </a:t>
            </a:r>
            <a:br>
              <a:rPr sz="2400"/>
            </a:b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И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Дождевой черв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Чаще всего встречаются следующие виды дождевых черв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349092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1. Дождевой червь четырёхгра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Eiseniella tetraedr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2. Дождевой червь злово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Eisenia foetid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3. Дождевой червь желтовато-зелё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Allophora chlorotic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4. Дождевой червь красноват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Lumbricus rubellu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5. Дождевой червь наземный или обыкнове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выползок) (Lumbricus terrestr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Дождевые черви"/>
          <p:cNvPicPr/>
          <p:nvPr/>
        </p:nvPicPr>
        <p:blipFill>
          <a:blip r:embed="rId1"/>
          <a:stretch/>
        </p:blipFill>
        <p:spPr>
          <a:xfrm>
            <a:off x="3564000" y="1989000"/>
            <a:ext cx="5403960" cy="40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ЭКОЛОГИЧЕСКИ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 вертикальному распределению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ждевых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ервей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в почве делят на три группы: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 поверхностно-обитающие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 том числе в компостах - Eisenia foetida, Dendroboena oktaedra, Lumbricus castaneus и др.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  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чвенно-подстило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Lumbricus rubellus, Eisenia nordenekioldi и др.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  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ор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Lumbricus terrestris, Dendroboena platura, обитающие в глубоких слоях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ЧНЫЙ РАЗРЕЗ СРЕДНЕЙ ЧАСТИ ТЕЛА ДОЖДЕВОГО ЧЕРВ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6" descr="1.bmp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Rectangle 5"/>
          <p:cNvSpPr/>
          <p:nvPr/>
        </p:nvSpPr>
        <p:spPr>
          <a:xfrm>
            <a:off x="533520" y="1447920"/>
            <a:ext cx="9155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но-мускульный мешок состоит из кутикулы, кожного эпител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цевых и продольных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ceum</cp:lastModifiedBy>
  <dcterms:modified xsi:type="dcterms:W3CDTF">2013-11-19T11:1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b0000000000010243100207f6000400038000</vt:lpwstr>
  </property>
  <property fmtid="{D5CDD505-2E9C-101B-9397-08002B2CF9AE}" pid="3" name="Version">
    <vt:r8>1</vt:r8>
  </property>
</Properties>
</file>