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D56-D792-4C4D-A6D3-A5ECC702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DE0-AB30-4897-AE43-284EC093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A0A-E8AB-41B7-8C23-32FD34D2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53B-0A39-4406-AB63-566B907E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B666-958A-42F4-8BFD-00932CFA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D2F4-2FDF-43B1-A381-F690C665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22BF-9B73-4E89-8F9B-ABD494B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F339-FD01-45A6-B0AA-A010E7EC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F6C8-6F74-44F2-AA45-44EA08D4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E1E9-2C46-4DB8-9418-F64D3AC7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79E4-90D2-420B-B08D-3BB34D0F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3F3-4AF3-4771-BFEE-D0F455F5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9B6D-56A2-45DE-8D4E-83D06E2C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1412-21C9-4CC3-8401-F144EBBA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35BE-2ACF-4644-962F-E0C8AF8F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C91C-E03D-4E0C-84C7-78124273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5B27-D422-4764-AA80-D05EB4DA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CB6-5C06-4642-84BE-86D502EF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971-498F-4F19-BE48-C33955D1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DBE-9B19-45CD-8C77-8FDFB8C0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4F2-AFCE-42E2-842E-A400269B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156-2F28-4F44-BA48-C8CE87DC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B76-1158-4108-93A2-3313777C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9E4-3E64-4226-BDEF-EC10AB16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613200"/>
            <a:ext cx="4952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D52A-3AC4-4CF2-87DE-EC9821A2D3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EA0F-9995-4231-BAE1-665765DBA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214560" y="475920"/>
            <a:ext cx="9358200" cy="24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istral"/>
              </a:rPr>
              <a:t>Тип</a:t>
            </a:r>
            <a:br>
              <a:rPr sz="8800"/>
            </a:br>
            <a:r>
              <a:rPr b="1" lang="ru-RU" sz="8800" spc="-1" strike="noStrike">
                <a:solidFill>
                  <a:srgbClr val="000000"/>
                </a:solidFill>
                <a:latin typeface="Mistral"/>
              </a:rPr>
              <a:t>Круглые черв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74"/>
          <p:cNvPicPr/>
          <p:nvPr/>
        </p:nvPicPr>
        <p:blipFill>
          <a:blip r:embed="rId1"/>
          <a:stretch/>
        </p:blipFill>
        <p:spPr>
          <a:xfrm>
            <a:off x="1938240" y="3621240"/>
            <a:ext cx="3975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img16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>
                <a:solidFill>
                  <a:srgbClr val="000000"/>
                </a:solidFill>
                <a:latin typeface="Arial Black"/>
              </a:rPr>
              <a:t>Общая характеристика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4c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Имеют двустороннюю сим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4c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Тело покрыто кожно-мускуль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меш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4c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Внутри – полость те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заполненная жидк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4c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Занимают все среды об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0002-002-Tip-kruglye-chervi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ИП КРУГЛЫЕ ЧЕР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285840" y="1500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ивительная стейнерия — свободноживущая морская немат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4572000" y="1500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охвостый иронус живет в наших пресных водах. Размеры 2,4–4,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85840" y="592920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фанолаймус, 0,9–1,4 мм. Обитает в наших пресных в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4857840" y="5929200"/>
            <a:ext cx="28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оидогине — паразит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1\Pictures\1.bmp"/>
          <p:cNvPicPr/>
          <p:nvPr/>
        </p:nvPicPr>
        <p:blipFill>
          <a:blip r:embed="rId1"/>
          <a:stretch/>
        </p:blipFill>
        <p:spPr>
          <a:xfrm>
            <a:off x="928800" y="2214720"/>
            <a:ext cx="2714400" cy="19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1\Pictures\2.bmp"/>
          <p:cNvPicPr/>
          <p:nvPr/>
        </p:nvPicPr>
        <p:blipFill>
          <a:blip r:embed="rId2"/>
          <a:stretch/>
        </p:blipFill>
        <p:spPr>
          <a:xfrm>
            <a:off x="5286240" y="2143080"/>
            <a:ext cx="2686320" cy="179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1\Pictures\3.bmp"/>
          <p:cNvPicPr/>
          <p:nvPr/>
        </p:nvPicPr>
        <p:blipFill>
          <a:blip r:embed="rId3"/>
          <a:stretch/>
        </p:blipFill>
        <p:spPr>
          <a:xfrm>
            <a:off x="1000080" y="4214880"/>
            <a:ext cx="2381400" cy="1697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1\Pictures\4.bmp"/>
          <p:cNvPicPr/>
          <p:nvPr/>
        </p:nvPicPr>
        <p:blipFill>
          <a:blip r:embed="rId4"/>
          <a:stretch/>
        </p:blipFill>
        <p:spPr>
          <a:xfrm>
            <a:off x="5786280" y="4286160"/>
            <a:ext cx="226224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аскарида"/>
          <p:cNvPicPr/>
          <p:nvPr/>
        </p:nvPicPr>
        <p:blipFill>
          <a:blip r:embed="rId1"/>
          <a:stretch/>
        </p:blipFill>
        <p:spPr>
          <a:xfrm>
            <a:off x="1768320" y="2273400"/>
            <a:ext cx="6077160" cy="4944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Типичным представителем паразитических круглых червей является – </a:t>
            </a: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человеческая аскар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img12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СТРОЕ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74"/>
          <p:cNvPicPr/>
          <p:nvPr/>
        </p:nvPicPr>
        <p:blipFill>
          <a:blip r:embed="rId1"/>
          <a:stretch/>
        </p:blipFill>
        <p:spPr>
          <a:xfrm>
            <a:off x="3956040" y="1401840"/>
            <a:ext cx="4902120" cy="3730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840" y="1434600"/>
            <a:ext cx="37148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нечленистое, снаружи покрытое плотной белковой оболочкой — кутикулой. Реснички иногда отсутствуют. Под кутикулой расположена гиподерма (однослойная покровная ткань), соединенная со слоем мышц. Рост сопровождается линь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СТР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5" descr="1.bmp"/>
          <p:cNvPicPr/>
          <p:nvPr/>
        </p:nvPicPr>
        <p:blipFill>
          <a:blip r:embed="rId1"/>
          <a:stretch/>
        </p:blipFill>
        <p:spPr>
          <a:xfrm>
            <a:off x="3857760" y="642960"/>
            <a:ext cx="4600440" cy="561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т на переднем конце тела. Есть анальное отверстие. Кишечник состоит из передней, средней и задней кишки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ительная система — протонефридии или кожная желе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веносной и дыхательной систем 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вная система состоит из одного или нескольких продольных нервных стволов и окологлоточного нервного коль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черви раздельнополые, реже гермафродиты. Оплодотворение чаще внутрен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ножение и разви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4" descr="1.bmp"/>
          <p:cNvPicPr/>
          <p:nvPr/>
        </p:nvPicPr>
        <p:blipFill>
          <a:blip r:embed="rId1"/>
          <a:stretch/>
        </p:blipFill>
        <p:spPr>
          <a:xfrm>
            <a:off x="3575160" y="1725480"/>
            <a:ext cx="5211720" cy="300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4200" y="1499760"/>
            <a:ext cx="3329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е черви чаще всего раздельнополы. У самцов развиты семенники, семяпроводы и семяизвергательный канал. У многих есть совокупительные органы — спикулы. Женские половые органы состоят из яичников, яйцеводов и матки. При оплодотворении самцы вводят спикулы в женское половое отверстие. Самки откладывают оплодотворенные яй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571920" y="10000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зненный цикл человеческой аск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0:36:28Z</dcterms:created>
  <dc:creator>Васильев П.А.</dc:creator>
  <dc:description/>
  <dc:language>en-US</dc:language>
  <cp:lastModifiedBy>liceum</cp:lastModifiedBy>
  <dcterms:modified xsi:type="dcterms:W3CDTF">2013-11-19T11:16:00Z</dcterms:modified>
  <cp:revision>25</cp:revision>
  <dc:subject/>
  <dc:title>Инфекционные заболевания</dc:title>
</cp:coreProperties>
</file>